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jpeg" ContentType="image/jpeg"/>
  <Override PartName="/ppt/media/image13.wmf" ContentType="image/x-wmf"/>
  <Override PartName="/ppt/media/image12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gif" ContentType="image/gif"/>
  <Override PartName="/ppt/media/image8.wmf" ContentType="image/x-wmf"/>
  <Override PartName="/ppt/media/image6.png" ContentType="image/png"/>
  <Override PartName="/ppt/media/oh_yeah.wav" ContentType="audio/x-wav"/>
  <Override PartName="/ppt/media/this_is_the_end_x.wav" ContentType="audio/x-wav"/>
  <Override PartName="/ppt/media/image7.gif" ContentType="image/gif"/>
  <Override PartName="/ppt/media/applause.wav" ContentType="audio/x-wav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67A-B6E9-455A-8912-6F7E4871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F627-C055-4430-A2C7-D9043EF5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3092-B1EB-45DF-B1A7-C200D397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782-05BF-4AA4-90F9-178DE967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10CB-BF38-4AF9-9FBC-6DDFC8D4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160B-8A6A-494D-B7E3-A9E2C5E6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0A64-D69B-42D0-9780-C301B6FA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BC72-B7EA-4E81-BBEB-708864E3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5F00-B713-4E0C-A26F-A07460B2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7948-BF8B-40D1-80C8-6B5F2E7D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4B78-652F-4448-BF2A-906A4759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5D0-4CA3-4163-AC44-19C744A9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6531-D242-4003-8879-485CD38C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0220-8A9F-4EB0-8048-3F1C5287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207A-8B21-448C-9ECB-A6A103A2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F1D9-581D-4C24-888A-75B0EB23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C34A-7FC5-4CC6-A0FA-1F4C5FD8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409E-E238-42B9-BEB0-39544788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787-1C50-4F37-AC8F-1CDA8E60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493-4541-4896-85E8-612ED853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63C8-EDA9-4A54-A750-EEE781A3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FFD-DC03-42AF-8896-A8F5E1E1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4548-E3B2-4F83-B5CB-8714358D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51B3-DD8D-4877-9F62-8AE9F913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D909-0ED2-4DA5-9CB5-A7863A84B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6EE4-AE01-466C-82F6-46EACEAA6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file:///tmp/home/.config/libreoffice/4/user/gallery/oh_yeah.wav" TargetMode="External"/><Relationship Id="rId3" Type="http://schemas.microsoft.com/office/2007/relationships/media" Target="file:///tmp/home/.config/libreoffice/4/user/gallery/oh_yeah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file:///tmp/home/.config/libreoffice/4/user/gallery/SN00047A.wav" TargetMode="External"/><Relationship Id="rId3" Type="http://schemas.microsoft.com/office/2007/relationships/media" Target="file:///tmp/home/.config/libreoffice/4/user/gallery/SN00047A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his_is_the_end_x.wav" TargetMode="External"/><Relationship Id="rId2" Type="http://schemas.microsoft.com/office/2007/relationships/media" Target="file:///tmp/home/.config/libreoffice/4/user/gallery/this_is_the_end_x.wav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oh_yea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this_is_the_end_x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600200" y="533520"/>
            <a:ext cx="6553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t's A Mystery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91" name="Picture 3" descr="C:\images and sounds\people\detectiv2.gif"/>
          <p:cNvPicPr/>
          <p:nvPr/>
        </p:nvPicPr>
        <p:blipFill>
          <a:blip r:embed="rId3"/>
          <a:stretch/>
        </p:blipFill>
        <p:spPr>
          <a:xfrm>
            <a:off x="3048120" y="32767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2057400" y="2666880"/>
            <a:ext cx="5257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663300"/>
                </a:solidFill>
                <a:uFillTx/>
                <a:latin typeface="Times New Roman"/>
              </a:rPr>
              <a:t>Drawing Conclusi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143000" y="1600200"/>
            <a:ext cx="7315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When you draw a conclusion you        use 2 thing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209680" y="28954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What you know in your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1911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133720" y="426708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What you’ve read in the stor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219320" y="5181480"/>
            <a:ext cx="7238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omic Sans MS"/>
              </a:rPr>
              <a:t>A conclusion is the decision you come to when you put these two together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7"/>
          <p:cNvSpPr txBox="1"/>
          <p:nvPr/>
        </p:nvSpPr>
        <p:spPr>
          <a:xfrm>
            <a:off x="1219320" y="533520"/>
            <a:ext cx="678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Drawing Conclusions: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-838080" y="1905120"/>
            <a:ext cx="815328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sleep in a cri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drink from a bo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cannot walk or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o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952880" y="19810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babies sleep in crib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105520" y="26668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babies drink bott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181480" y="350532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babies can’t do these things y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495680" y="49528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Must be a bab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8" descr="C:\Documents and Settings\Melissa  Caro\Application Data\Microsoft\Media Catalog\Downloaded Clips\cl92\j0365298.gif"/>
          <p:cNvPicPr/>
          <p:nvPr/>
        </p:nvPicPr>
        <p:blipFill>
          <a:blip r:embed="rId1"/>
          <a:stretch/>
        </p:blipFill>
        <p:spPr>
          <a:xfrm>
            <a:off x="6172200" y="40384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7150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0"/>
          <p:cNvSpPr txBox="1"/>
          <p:nvPr/>
        </p:nvSpPr>
        <p:spPr>
          <a:xfrm>
            <a:off x="1447920" y="457200"/>
            <a:ext cx="4190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For Example: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996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838080" y="1676520"/>
            <a:ext cx="5410440" cy="37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ut me on your f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I will keep you         warm and d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ear me when it rai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952880" y="213372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you wear socks and shoes on your fe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4876920" y="304812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Both of these keep you warm, but only shoes keep you d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143000" y="45720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do you wear, on your     feet, when it rai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WordArt 7"/>
          <p:cNvSpPr txBox="1"/>
          <p:nvPr/>
        </p:nvSpPr>
        <p:spPr>
          <a:xfrm>
            <a:off x="1219320" y="5257800"/>
            <a:ext cx="4038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inboots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Picture 8" descr="C:\Documents and Settings\Melissa  Caro\Application Data\Microsoft\Media Catalog\Downloaded Clips\cl0\AG00501_.gif"/>
          <p:cNvPicPr/>
          <p:nvPr/>
        </p:nvPicPr>
        <p:blipFill>
          <a:blip r:embed="rId1"/>
          <a:stretch/>
        </p:blipFill>
        <p:spPr>
          <a:xfrm>
            <a:off x="5486400" y="3505320"/>
            <a:ext cx="3352680" cy="3022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4864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4" name="WordArt 10"/>
          <p:cNvSpPr txBox="1"/>
          <p:nvPr/>
        </p:nvSpPr>
        <p:spPr>
          <a:xfrm>
            <a:off x="1828800" y="457200"/>
            <a:ext cx="6172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Let's Try Again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5534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3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762120" y="198108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You need me before you can mail a letter. Paste me on an envelo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3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Your Turn!!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21932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 rot="20840400">
            <a:off x="1066680" y="3276360"/>
            <a:ext cx="2667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need a postman, an envelope, and a stamp to mail a let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 rot="6600">
            <a:off x="6095880" y="327636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Only one of these would be pasted onto an envelop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C:\Documents and Settings\Melissa  Caro\Application Data\Microsoft\Media Catalog\Downloaded Clips\cl0\bs00737_.wmf"/>
          <p:cNvPicPr/>
          <p:nvPr/>
        </p:nvPicPr>
        <p:blipFill>
          <a:blip r:embed="rId1"/>
          <a:stretch/>
        </p:blipFill>
        <p:spPr>
          <a:xfrm>
            <a:off x="3581280" y="2209680"/>
            <a:ext cx="24717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447920" y="1676520"/>
            <a:ext cx="6553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I am white.  You need me every day.  You drink me when you are thirsty.  I can make a mousta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3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And Again!!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21932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1066680" y="304812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Lots of things are whit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6248520" y="3048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need a lot of th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143000" y="39625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is white and you drin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029200" y="41148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AND, It makes a moustach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WordArt 12"/>
          <p:cNvSpPr txBox="1"/>
          <p:nvPr/>
        </p:nvSpPr>
        <p:spPr>
          <a:xfrm>
            <a:off x="2362320" y="1905120"/>
            <a:ext cx="51051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 know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30" name="Picture 6" descr="http://www.thisevilempire.com/photos/jonahmilkm.jpg"/>
          <p:cNvPicPr/>
          <p:nvPr/>
        </p:nvPicPr>
        <p:blipFill>
          <a:blip r:embed="rId4"/>
          <a:stretch/>
        </p:blipFill>
        <p:spPr>
          <a:xfrm>
            <a:off x="1905120" y="1828800"/>
            <a:ext cx="57909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195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4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609480" y="1752480"/>
            <a:ext cx="815364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I look like a bab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You can give me a name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Children like to play with 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You are AWESOME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14300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914400" y="17524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looks like a bab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400800" y="19051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Dolls?  Pictures? Hmm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990720" y="388620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can name dolls, not pic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400800" y="365760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Children play with dolls, not pic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WordArt 9"/>
          <p:cNvSpPr txBox="1"/>
          <p:nvPr/>
        </p:nvSpPr>
        <p:spPr>
          <a:xfrm>
            <a:off x="2362320" y="1905120"/>
            <a:ext cx="51051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 know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39" name="Picture 10" descr="C:\Documents and Settings\Melissa  Caro\Application Data\Microsoft\Media Catalog\Downloaded Clips\cl46\j0175479.jpg"/>
          <p:cNvPicPr/>
          <p:nvPr/>
        </p:nvPicPr>
        <p:blipFill>
          <a:blip r:embed="rId1"/>
          <a:stretch/>
        </p:blipFill>
        <p:spPr>
          <a:xfrm>
            <a:off x="3048120" y="1447920"/>
            <a:ext cx="3360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3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oh_yea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90720" y="1600200"/>
            <a:ext cx="739116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I grow on an ear.  Cook me in hot oil.  I will puff up and taste good.  Some people microwave me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What am I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143000" y="487692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99"/>
                </a:solidFill>
                <a:latin typeface="Comic Sans MS"/>
              </a:rPr>
              <a:t>What did you know in your h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1828800" y="457200"/>
            <a:ext cx="6172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Last Time!!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914400" y="3048120"/>
            <a:ext cx="2590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What grows on an ear?  Ear wax?  Earrings?  Corn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40080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You wouldn’t cook or taste ear wax or earr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2133720" y="4267080"/>
            <a:ext cx="51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I know corn will puff up and it is sometimes cooked in the microwav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WordArt 8"/>
          <p:cNvSpPr txBox="1"/>
          <p:nvPr/>
        </p:nvSpPr>
        <p:spPr>
          <a:xfrm>
            <a:off x="2362320" y="1905120"/>
            <a:ext cx="51051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 know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47" name="Picture 10" descr="C:\Documents and Settings\Melissa  Caro\Application Data\Microsoft\Media Catalog\Downloaded Clips\cl64\j0250766.wmf"/>
          <p:cNvPicPr/>
          <p:nvPr/>
        </p:nvPicPr>
        <p:blipFill>
          <a:blip r:embed="rId1"/>
          <a:stretch/>
        </p:blipFill>
        <p:spPr>
          <a:xfrm>
            <a:off x="2286000" y="838080"/>
            <a:ext cx="5146560" cy="6019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2"/>
          <a:stretch/>
        </p:blipFill>
        <p:spPr>
          <a:xfrm>
            <a:off x="69343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"/>
          <p:cNvPicPr/>
          <p:nvPr/>
        </p:nvPicPr>
        <p:blipFill>
          <a:blip r:embed="rId3"/>
          <a:stretch/>
        </p:blipFill>
        <p:spPr>
          <a:xfrm>
            <a:off x="6629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" dur="408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408"/>
                            </p:stCondLst>
                            <p:childTnLst>
                              <p:par>
                                <p:cTn id="4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3" dur="408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Documents and Settings\Melissa  Caro\Application Data\Microsoft\Media Catalog\Downloaded Clips\cl3e\j0156953.wmf"/>
          <p:cNvPicPr/>
          <p:nvPr/>
        </p:nvPicPr>
        <p:blipFill>
          <a:blip r:embed="rId1"/>
          <a:stretch/>
        </p:blipFill>
        <p:spPr>
          <a:xfrm>
            <a:off x="1523880" y="1219320"/>
            <a:ext cx="655344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his_is_the_end_x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2:44:37Z</dcterms:created>
  <dc:creator>Melissa Caro</dc:creator>
  <dc:description/>
  <dc:language>en-US</dc:language>
  <cp:lastModifiedBy>127ramirezc</cp:lastModifiedBy>
  <dcterms:modified xsi:type="dcterms:W3CDTF">2012-01-23T16:06:00Z</dcterms:modified>
  <cp:revision>19</cp:revision>
  <dc:subject/>
  <dc:title>PowerPoint Presentation</dc:title>
</cp:coreProperties>
</file>